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E32-0E97-4978-A820-4F2CD11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002-EB5A-44F0-B758-A665AA12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36B-F820-42A5-9834-819B3971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72F-05D2-4496-B8C9-C8A60BC8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9F9-A54E-4755-9613-AAAE5DF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1D3-18E7-448B-8777-E68D9857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474-8088-4B61-B220-7F724C3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FFE-9771-4C82-9DB0-65345AE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2BB-0083-4D86-AF16-286AD4E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026-BD4C-43D4-A9FA-B846AE9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6F6-891A-44A7-B5E6-77AB261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509-67B9-4D97-96EE-CA380C56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F77B-6F70-4D2D-9ABB-CAA753A3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âmara Técnica de Integração de Procedimentos, Ações de Outorga e Ações Reguladoras</a:t>
            </a:r>
            <a:br>
              <a:rPr sz="2000"/>
            </a:br>
            <a:br>
              <a:rPr sz="4100"/>
            </a:br>
            <a:br>
              <a:rPr sz="4100"/>
            </a:br>
            <a:r>
              <a:rPr b="1" lang="pt-BR" sz="3800" spc="-1" strike="noStrike">
                <a:solidFill>
                  <a:srgbClr val="333399"/>
                </a:solidFill>
                <a:latin typeface="Arial"/>
              </a:rPr>
              <a:t>OFICINA</a:t>
            </a:r>
            <a:br>
              <a:rPr sz="3800"/>
            </a:b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A Gestão de Recursos Hídricos em Corpos de Água Intermitentes</a:t>
            </a:r>
            <a:br>
              <a:rPr sz="3200"/>
            </a:br>
            <a:br>
              <a:rPr sz="3700"/>
            </a:br>
            <a:br>
              <a:rPr sz="3700"/>
            </a:br>
            <a:r>
              <a:rPr b="1" lang="pt-BR" sz="2500" spc="-1" strike="noStrike">
                <a:solidFill>
                  <a:srgbClr val="333399"/>
                </a:solidFill>
                <a:latin typeface="Arial"/>
              </a:rPr>
              <a:t>Brasília, 25 e 26 de maio de 2010</a:t>
            </a:r>
            <a:br>
              <a:rPr sz="2500"/>
            </a:br>
            <a:br>
              <a:rPr sz="37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01fb01cafb83$9ed95050$9c1011ac@EST4169"/>
          <p:cNvPicPr/>
          <p:nvPr/>
        </p:nvPicPr>
        <p:blipFill>
          <a:blip r:embed="rId1"/>
          <a:stretch/>
        </p:blipFill>
        <p:spPr>
          <a:xfrm>
            <a:off x="3200400" y="380880"/>
            <a:ext cx="32767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7:02:27Z</dcterms:created>
  <dc:creator>srhu</dc:creator>
  <dc:description/>
  <dc:language>en-US</dc:language>
  <cp:lastModifiedBy>srhu</cp:lastModifiedBy>
  <dcterms:modified xsi:type="dcterms:W3CDTF">2010-04-25T17:46:09Z</dcterms:modified>
  <cp:revision>2</cp:revision>
  <dc:subject/>
  <dc:title>Câmara Técnica de Integração de Procedimentos, Ações de Outorga e Ações Reguladoras   </dc:title>
</cp:coreProperties>
</file>